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36E-FFAE-4F1A-A7B9-876153CB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278-9FEC-4811-8C7B-AB152815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F34-0E30-4972-8D2B-7BE9B7B2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6B0-51C3-4F56-A845-3A64C80F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81F-4BC1-420F-8996-251E0F2D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3AE-0669-45B8-A698-E255669B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8E1-6CFD-4733-BB1F-459C36D0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F41-E65D-4BA2-9076-2CB3BDAA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9A9-19B8-43CE-9402-193B4489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4DC-C56A-408A-839C-22CEE8D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17F-BAC4-4B6E-AB4D-9FC1F7C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D2B-3257-40BE-B611-BB3B58D0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AE5B-D594-4BCE-9A78-466B0216F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u 1" descr=""/>
          <p:cNvPicPr/>
          <p:nvPr/>
        </p:nvPicPr>
        <p:blipFill>
          <a:blip r:embed="rId1"/>
          <a:stretch/>
        </p:blipFill>
        <p:spPr>
          <a:xfrm>
            <a:off x="493560" y="1036800"/>
            <a:ext cx="6897960" cy="639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28840" y="2396880"/>
            <a:ext cx="6400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tăText 4"/>
          <p:cNvSpPr/>
          <p:nvPr/>
        </p:nvSpPr>
        <p:spPr>
          <a:xfrm>
            <a:off x="626400" y="30492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C.MIHAI VODA COM.MIHAI VITEA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tăText 5"/>
          <p:cNvSpPr/>
          <p:nvPr/>
        </p:nvSpPr>
        <p:spPr>
          <a:xfrm>
            <a:off x="6021720" y="607212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Profesor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usa Fe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1676520"/>
            <a:ext cx="5334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INE SUNTEM NO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981080" y="2971800"/>
            <a:ext cx="518184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sciplina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 CIV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: V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3753000" cy="285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38480" y="3727440"/>
            <a:ext cx="4714920" cy="313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95680" y="457200"/>
            <a:ext cx="26863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55232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4838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ulishco</cp:lastModifiedBy>
  <dcterms:modified xsi:type="dcterms:W3CDTF">2009-12-09T10:27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